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D45-423B-41DE-886C-7FE9B96A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34F-9A69-4C52-BA32-63E1965F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0FE-F70D-4C99-858A-845F0CD7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7DC-16B2-4EE6-BDBD-DD6E1E92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388-7926-43F9-A0E3-FA7818B1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603-C252-404D-A187-CE8AF2C6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91A-3447-4411-B06F-2FA3BC74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44A-FEB1-4557-80EF-5AF68F35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3C3-ACF6-482A-9D22-3A1375F5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029-E598-4699-912F-FC7883AA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556-AAAA-49E6-8A9D-11D9138A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0EA-D0D1-44B0-9DA2-9BCE27FF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75AB-C9BF-43ED-BF31-42FE2FFDD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etting up “test bridge”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313000"/>
            <a:ext cx="37339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ding Weight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60720" y="1752480"/>
            <a:ext cx="285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Testing Bridge with extra sticks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03372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flipH="1" rot="21568200">
            <a:off x="152280" y="1980720"/>
            <a:ext cx="457200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Adding Rocks to the Bridge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30400" y="1600200"/>
            <a:ext cx="3164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How much will it Hold?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849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It Broke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600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6:48:58Z</dcterms:created>
  <dc:creator>USD376</dc:creator>
  <dc:description/>
  <dc:language>en-US</dc:language>
  <cp:lastModifiedBy>USD376</cp:lastModifiedBy>
  <dcterms:modified xsi:type="dcterms:W3CDTF">2010-02-10T17:14:31Z</dcterms:modified>
  <cp:revision>12</cp:revision>
  <dc:subject/>
  <dc:title>Test Bridge</dc:title>
</cp:coreProperties>
</file>